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1BD-2733-437A-A36F-56C2D7E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8BB-2061-4BB6-BE77-7DE6A215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EA8-4C2E-42E5-B508-F53B3E80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7C1-D8B6-400D-B9CF-F1D331F4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5CC-1EA7-4356-A7A4-BF6C44B8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AFD-0C14-4EDE-AF93-C94042C2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455-A294-48CE-9A93-49C1845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0EC-4A6C-4C84-9D79-BAC870D0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869-9870-42E9-8EF8-3DA7516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129-1106-4C87-A7CA-CCF7510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BD1-9EDE-4F7E-AF23-787BF58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101-3FA4-4E35-BFBF-030BD96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72C-9BFC-4F5D-84E9-9DA7FE98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39160" y="457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547640" y="981000"/>
            <a:ext cx="51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村  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01116152835750"/>
          <p:cNvPicPr/>
          <p:nvPr/>
        </p:nvPicPr>
        <p:blipFill>
          <a:blip r:embed="rId1"/>
          <a:stretch/>
        </p:blipFill>
        <p:spPr>
          <a:xfrm>
            <a:off x="179280" y="476280"/>
            <a:ext cx="4643640" cy="31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3fede080-17ec-4a41-9aae-dade7087c772"/>
          <p:cNvPicPr/>
          <p:nvPr/>
        </p:nvPicPr>
        <p:blipFill>
          <a:blip r:embed="rId2"/>
          <a:stretch/>
        </p:blipFill>
        <p:spPr>
          <a:xfrm>
            <a:off x="4859280" y="476280"/>
            <a:ext cx="4284720" cy="317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195640" y="3645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0" y="450864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32b09"/>
                </a:solidFill>
                <a:latin typeface="Arial"/>
              </a:rPr>
              <a:t>赏   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又  观  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00720" y="51577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煮   酒  再  烹  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=2955051370,3990546206&amp;fm=52&amp;gp=0"/>
          <p:cNvPicPr/>
          <p:nvPr/>
        </p:nvPicPr>
        <p:blipFill>
          <a:blip r:embed="rId3"/>
          <a:srcRect l="0" t="0" r="876" b="8957"/>
          <a:stretch/>
        </p:blipFill>
        <p:spPr>
          <a:xfrm>
            <a:off x="179280" y="3789360"/>
            <a:ext cx="37832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ca5503881de1a3db9998fd2"/>
          <p:cNvPicPr/>
          <p:nvPr/>
        </p:nvPicPr>
        <p:blipFill>
          <a:blip r:embed="rId1"/>
          <a:stretch/>
        </p:blipFill>
        <p:spPr>
          <a:xfrm>
            <a:off x="4427640" y="476280"/>
            <a:ext cx="3671640" cy="29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4c319774cf50ae4b8cb10dc7"/>
          <p:cNvPicPr/>
          <p:nvPr/>
        </p:nvPicPr>
        <p:blipFill>
          <a:blip r:embed="rId2"/>
          <a:stretch/>
        </p:blipFill>
        <p:spPr>
          <a:xfrm>
            <a:off x="108000" y="476280"/>
            <a:ext cx="4141800" cy="283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4716360" y="3429000"/>
            <a:ext cx="4174920" cy="2952360"/>
            <a:chOff x="4716360" y="3429000"/>
            <a:chExt cx="4174920" cy="2952360"/>
          </a:xfrm>
        </p:grpSpPr>
        <p:pic>
          <p:nvPicPr>
            <p:cNvPr id="89" name="Picture 5" descr="莲子-形状"/>
            <p:cNvPicPr/>
            <p:nvPr/>
          </p:nvPicPr>
          <p:blipFill>
            <a:blip r:embed="rId3"/>
            <a:stretch/>
          </p:blipFill>
          <p:spPr>
            <a:xfrm>
              <a:off x="4716360" y="3429000"/>
              <a:ext cx="331236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6"/>
            <p:cNvSpPr txBox="1"/>
            <p:nvPr/>
          </p:nvSpPr>
          <p:spPr>
            <a:xfrm>
              <a:off x="7615080" y="4190040"/>
              <a:ext cx="1276200" cy="114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莲子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179280" y="3429000"/>
            <a:ext cx="4392360" cy="2808360"/>
            <a:chOff x="179280" y="3429000"/>
            <a:chExt cx="4392360" cy="2808360"/>
          </a:xfrm>
        </p:grpSpPr>
        <p:pic>
          <p:nvPicPr>
            <p:cNvPr id="92" name="Picture 8" descr="c52a0d48d0d3a3d7faf2c0f2"/>
            <p:cNvPicPr/>
            <p:nvPr/>
          </p:nvPicPr>
          <p:blipFill>
            <a:blip r:embed="rId4"/>
            <a:stretch/>
          </p:blipFill>
          <p:spPr>
            <a:xfrm>
              <a:off x="179280" y="3429000"/>
              <a:ext cx="4392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WordArt 9"/>
            <p:cNvSpPr txBox="1"/>
            <p:nvPr/>
          </p:nvSpPr>
          <p:spPr>
            <a:xfrm>
              <a:off x="251640" y="3493080"/>
              <a:ext cx="3083400" cy="84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荷花（莲花）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4" name="WordArt 10"/>
          <p:cNvSpPr txBox="1"/>
          <p:nvPr/>
        </p:nvSpPr>
        <p:spPr>
          <a:xfrm rot="5400000">
            <a:off x="7362360" y="1503360"/>
            <a:ext cx="230364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54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采莲女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03280" y="549360"/>
            <a:ext cx="69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能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按原文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蔓（ ）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藤（ ）瓜，（填近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）叶衬（ ）花。（填表示颜色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（ ）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（ ）沙，（填反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村傍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菊又（ ）竹，（填近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酒再（ ）茶。（填表示动作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池塘边采莲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盏灯前读书娃。（填表示数量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58920" y="1268280"/>
            <a:ext cx="638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先组词，再写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景 （风景） 这里的风景可真美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菊 （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 （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娃 （ 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4740120" y="2398680"/>
            <a:ext cx="1452600" cy="1439640"/>
            <a:chOff x="4740120" y="2398680"/>
            <a:chExt cx="1452600" cy="1439640"/>
          </a:xfrm>
        </p:grpSpPr>
        <p:sp>
          <p:nvSpPr>
            <p:cNvPr id="98" name="Rectangle 3"/>
            <p:cNvSpPr/>
            <p:nvPr/>
          </p:nvSpPr>
          <p:spPr>
            <a:xfrm>
              <a:off x="4752720" y="2398680"/>
              <a:ext cx="144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"/>
            <p:cNvSpPr/>
            <p:nvPr/>
          </p:nvSpPr>
          <p:spPr>
            <a:xfrm>
              <a:off x="547344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>
              <a:off x="4740120" y="310644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2851200" y="2273400"/>
            <a:ext cx="1452600" cy="1439640"/>
            <a:chOff x="2851200" y="2273400"/>
            <a:chExt cx="1452600" cy="1439640"/>
          </a:xfrm>
        </p:grpSpPr>
        <p:sp>
          <p:nvSpPr>
            <p:cNvPr id="102" name="Rectangle 7"/>
            <p:cNvSpPr/>
            <p:nvPr/>
          </p:nvSpPr>
          <p:spPr>
            <a:xfrm>
              <a:off x="2863800" y="227340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3584520" y="22734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>
              <a:off x="2851200" y="29811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0"/>
          <p:cNvSpPr/>
          <p:nvPr/>
        </p:nvSpPr>
        <p:spPr>
          <a:xfrm>
            <a:off x="457200" y="533520"/>
            <a:ext cx="331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1015920" y="2276640"/>
            <a:ext cx="1452600" cy="1439640"/>
            <a:chOff x="1015920" y="2276640"/>
            <a:chExt cx="1452600" cy="1439640"/>
          </a:xfrm>
        </p:grpSpPr>
        <p:sp>
          <p:nvSpPr>
            <p:cNvPr id="107" name="Rectangle 12"/>
            <p:cNvSpPr/>
            <p:nvPr/>
          </p:nvSpPr>
          <p:spPr>
            <a:xfrm>
              <a:off x="102852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>
              <a:off x="174924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>
              <a:off x="101592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5"/>
          <p:cNvSpPr/>
          <p:nvPr/>
        </p:nvSpPr>
        <p:spPr>
          <a:xfrm>
            <a:off x="990720" y="22003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825640" y="21718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730760" y="2259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4724280" y="2286000"/>
            <a:ext cx="1452600" cy="1439640"/>
            <a:chOff x="4724280" y="2286000"/>
            <a:chExt cx="1452600" cy="1439640"/>
          </a:xfrm>
        </p:grpSpPr>
        <p:sp>
          <p:nvSpPr>
            <p:cNvPr id="114" name="Rectangle 19"/>
            <p:cNvSpPr/>
            <p:nvPr/>
          </p:nvSpPr>
          <p:spPr>
            <a:xfrm>
              <a:off x="4736880" y="228600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457600" y="2286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4724280" y="29937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548400" y="2394000"/>
            <a:ext cx="1452600" cy="1439640"/>
            <a:chOff x="6548400" y="2394000"/>
            <a:chExt cx="1452600" cy="1439640"/>
          </a:xfrm>
        </p:grpSpPr>
        <p:sp>
          <p:nvSpPr>
            <p:cNvPr id="118" name="Rectangle 23"/>
            <p:cNvSpPr/>
            <p:nvPr/>
          </p:nvSpPr>
          <p:spPr>
            <a:xfrm>
              <a:off x="6561000" y="2394000"/>
              <a:ext cx="144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7281720" y="239400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6548400" y="310176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26"/>
          <p:cNvSpPr/>
          <p:nvPr/>
        </p:nvSpPr>
        <p:spPr>
          <a:xfrm>
            <a:off x="6637320" y="22543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7"/>
          <p:cNvGrpSpPr/>
          <p:nvPr/>
        </p:nvGrpSpPr>
        <p:grpSpPr>
          <a:xfrm>
            <a:off x="6648480" y="2276640"/>
            <a:ext cx="1452600" cy="1439640"/>
            <a:chOff x="6648480" y="2276640"/>
            <a:chExt cx="1452600" cy="1439640"/>
          </a:xfrm>
        </p:grpSpPr>
        <p:sp>
          <p:nvSpPr>
            <p:cNvPr id="123" name="Rectangle 28"/>
            <p:cNvSpPr/>
            <p:nvPr/>
          </p:nvSpPr>
          <p:spPr>
            <a:xfrm>
              <a:off x="666108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738180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664848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1119240" y="4444920"/>
            <a:ext cx="1452600" cy="1439640"/>
            <a:chOff x="1119240" y="4444920"/>
            <a:chExt cx="1452600" cy="1439640"/>
          </a:xfrm>
        </p:grpSpPr>
        <p:sp>
          <p:nvSpPr>
            <p:cNvPr id="127" name="Rectangle 32"/>
            <p:cNvSpPr/>
            <p:nvPr/>
          </p:nvSpPr>
          <p:spPr>
            <a:xfrm>
              <a:off x="1131840" y="44449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1852560" y="44449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4"/>
            <p:cNvSpPr/>
            <p:nvPr/>
          </p:nvSpPr>
          <p:spPr>
            <a:xfrm>
              <a:off x="1119240" y="51526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35"/>
          <p:cNvSpPr/>
          <p:nvPr/>
        </p:nvSpPr>
        <p:spPr>
          <a:xfrm>
            <a:off x="1143000" y="43434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6"/>
          <p:cNvGrpSpPr/>
          <p:nvPr/>
        </p:nvGrpSpPr>
        <p:grpSpPr>
          <a:xfrm>
            <a:off x="3164040" y="4459320"/>
            <a:ext cx="1451880" cy="1439640"/>
            <a:chOff x="3164040" y="4459320"/>
            <a:chExt cx="1451880" cy="1439640"/>
          </a:xfrm>
        </p:grpSpPr>
        <p:sp>
          <p:nvSpPr>
            <p:cNvPr id="132" name="Rectangle 37"/>
            <p:cNvSpPr/>
            <p:nvPr/>
          </p:nvSpPr>
          <p:spPr>
            <a:xfrm>
              <a:off x="3176280" y="4459320"/>
              <a:ext cx="143964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8"/>
            <p:cNvSpPr/>
            <p:nvPr/>
          </p:nvSpPr>
          <p:spPr>
            <a:xfrm>
              <a:off x="389700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9"/>
            <p:cNvSpPr/>
            <p:nvPr/>
          </p:nvSpPr>
          <p:spPr>
            <a:xfrm>
              <a:off x="3164040" y="5167080"/>
              <a:ext cx="143964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40"/>
          <p:cNvSpPr/>
          <p:nvPr/>
        </p:nvSpPr>
        <p:spPr>
          <a:xfrm>
            <a:off x="3160800" y="435780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1"/>
          <p:cNvGrpSpPr/>
          <p:nvPr/>
        </p:nvGrpSpPr>
        <p:grpSpPr>
          <a:xfrm>
            <a:off x="5006880" y="4459320"/>
            <a:ext cx="1452600" cy="1439640"/>
            <a:chOff x="5006880" y="4459320"/>
            <a:chExt cx="1452600" cy="1439640"/>
          </a:xfrm>
        </p:grpSpPr>
        <p:sp>
          <p:nvSpPr>
            <p:cNvPr id="137" name="Rectangle 42"/>
            <p:cNvSpPr/>
            <p:nvPr/>
          </p:nvSpPr>
          <p:spPr>
            <a:xfrm>
              <a:off x="5019480" y="44593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574020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4"/>
            <p:cNvSpPr/>
            <p:nvPr/>
          </p:nvSpPr>
          <p:spPr>
            <a:xfrm>
              <a:off x="5006880" y="51670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45"/>
          <p:cNvSpPr/>
          <p:nvPr/>
        </p:nvSpPr>
        <p:spPr>
          <a:xfrm>
            <a:off x="5037120" y="4437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979640" y="189000"/>
            <a:ext cx="3456000" cy="68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村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有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无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渔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农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赏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观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酒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半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采莲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灯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书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600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68360" y="400536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3388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些词语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藤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晚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赏   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灯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 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189800" y="12826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70160" y="12175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302520" y="12175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177920" y="28224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341520" y="28386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698720" y="2852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44364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547640" y="4284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30520" y="43498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986720" y="4292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752480" y="2133720"/>
            <a:ext cx="4953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蔓生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藤结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绿叶衬红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292720" y="836640"/>
            <a:ext cx="36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à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细长且不能直立的茎。如豆蔓、顺蔓摸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某些植物的匍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ú f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茎或攀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ānyuá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茎，如白藤、紫藤、葡萄等的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蔓</a:t>
            </a: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横向生长</a:t>
            </a:r>
            <a:r>
              <a:rPr b="1" lang="en-US" sz="3200" spc="-1" strike="noStrike">
                <a:solidFill>
                  <a:srgbClr val="d32b0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藤</a:t>
            </a: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是纵向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ou4"/>
          <p:cNvPicPr/>
          <p:nvPr/>
        </p:nvPicPr>
        <p:blipFill>
          <a:blip r:embed="rId1"/>
          <a:srcRect l="0" t="0" r="1060" b="19536"/>
          <a:stretch/>
        </p:blipFill>
        <p:spPr>
          <a:xfrm>
            <a:off x="324000" y="620640"/>
            <a:ext cx="3562200" cy="204624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3995640" y="1197000"/>
            <a:ext cx="122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蔓生豆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3708360" y="407664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藤结瓜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4" name="Picture 6" descr="20110313135449-650301526"/>
          <p:cNvPicPr/>
          <p:nvPr/>
        </p:nvPicPr>
        <p:blipFill>
          <a:blip r:embed="rId2"/>
          <a:stretch/>
        </p:blipFill>
        <p:spPr>
          <a:xfrm>
            <a:off x="395280" y="3284640"/>
            <a:ext cx="3168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404640"/>
            <a:ext cx="691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来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绿叶</a:t>
            </a:r>
            <a:r>
              <a:rPr b="1" lang="zh-CN" sz="2400" spc="-1" strike="noStrike">
                <a:solidFill>
                  <a:srgbClr val="d32b09"/>
                </a:solidFill>
                <a:latin typeface="Arial"/>
              </a:rPr>
              <a:t>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花”中，</a:t>
            </a:r>
            <a:r>
              <a:rPr b="1" lang="zh-CN" sz="2400" spc="-1" strike="noStrike">
                <a:solidFill>
                  <a:srgbClr val="d32b09"/>
                </a:solidFill>
                <a:latin typeface="Arial"/>
              </a:rPr>
              <a:t>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意思呢？（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典中它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里面或下面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一层。如：衬上一层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衬在里面的。如衬衣、衬衫、衬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é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衬、衬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如：红花衬着绿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0100104_3f883c9bad8f1a20c76f206VLfF8lT60"/>
          <p:cNvPicPr/>
          <p:nvPr/>
        </p:nvPicPr>
        <p:blipFill>
          <a:blip r:embed="rId1"/>
          <a:stretch/>
        </p:blipFill>
        <p:spPr>
          <a:xfrm>
            <a:off x="179280" y="3645000"/>
            <a:ext cx="4248360" cy="30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u=2997194474,3928066066&amp;fm=52&amp;gp=0"/>
          <p:cNvPicPr/>
          <p:nvPr/>
        </p:nvPicPr>
        <p:blipFill>
          <a:blip r:embed="rId2"/>
          <a:stretch/>
        </p:blipFill>
        <p:spPr>
          <a:xfrm>
            <a:off x="4572000" y="364500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01200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940360" y="98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26920" y="981000"/>
            <a:ext cx="4419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山有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无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渔村傍农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34080" y="4221000"/>
            <a:ext cx="530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句话描绘的是自然风光之美。“山有色，水无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六个字把青山绿水的一派大好风光呈现在我们眼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渔村靠近农家小院，坐落在依山傍水的地方。青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山，绿绿的水，典雅的渔村和农家小院，无不表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乡村的宁静、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68360" y="476280"/>
            <a:ext cx="77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来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渔 村 </a:t>
            </a:r>
            <a:r>
              <a:rPr b="1" lang="zh-CN" sz="2400" spc="-1" strike="noStrike">
                <a:solidFill>
                  <a:srgbClr val="d32b09"/>
                </a:solidFill>
                <a:latin typeface="宋体"/>
              </a:rPr>
              <a:t>傍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农 家”中“</a:t>
            </a:r>
            <a:r>
              <a:rPr b="1" lang="zh-CN" sz="2400" spc="-1" strike="noStrike">
                <a:solidFill>
                  <a:srgbClr val="d32b09"/>
                </a:solidFill>
                <a:latin typeface="宋体"/>
              </a:rPr>
              <a:t>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是什么意思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靠近：如依山傍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接近（指时间）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傍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0080327180912_583528299"/>
          <p:cNvPicPr/>
          <p:nvPr/>
        </p:nvPicPr>
        <p:blipFill>
          <a:blip r:embed="rId1"/>
          <a:stretch/>
        </p:blipFill>
        <p:spPr>
          <a:xfrm>
            <a:off x="4500720" y="2997360"/>
            <a:ext cx="4643280" cy="386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406594_090838054_2"/>
          <p:cNvPicPr/>
          <p:nvPr/>
        </p:nvPicPr>
        <p:blipFill>
          <a:blip r:embed="rId2"/>
          <a:srcRect l="0" t="0" r="184" b="6426"/>
          <a:stretch/>
        </p:blipFill>
        <p:spPr>
          <a:xfrm>
            <a:off x="108000" y="2997360"/>
            <a:ext cx="4311720" cy="3098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32720" y="10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24000" y="0"/>
            <a:ext cx="5486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赏菊又观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煮酒再烹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半塘池边采莲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盏灯前读书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4000" y="393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和竹，说明时节是秋季，虽说是农家小院，景色却十分雅致。“赏菊””观竹”“煮酒”烹茶”四个词语，把乡村悠然自在的生活展现在我们面前。通过 “煮酒、烹茶”可以想象乡村人们悠闲自在、丰衣足食幸福安逸的生活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1-27T18:28:2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